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4D3-79FD-4779-B948-FC95F7DC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54A-56CA-4E02-A77D-B8E41872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DFE-95FE-42E6-8283-6C6FB3E1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986-B973-4C97-A744-2FD977A8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BA6-04F7-42F3-8BAA-369D8A8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704-BDCE-4CA5-B080-A69BE9D4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E93-BE75-47B2-A3EB-0E9C3EF5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053-A40B-4985-BBC2-A4EBD8F1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307-9CD7-4B7A-8475-5691AAB0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20F-DFD5-44EA-ABA5-A3281A1E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D4B-E1A9-483A-8060-3D9E2AE3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169-CEFA-4EC7-BC36-691F705A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EDA8-EE2D-467B-969B-7DBD732FA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pravodaj.genderstudies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nderstudies.cz/" TargetMode="External"/><Relationship Id="rId2" Type="http://schemas.openxmlformats.org/officeDocument/2006/relationships/hyperlink" Target="http://www.genderstudies.cz/" TargetMode="External"/><Relationship Id="rId3" Type="http://schemas.openxmlformats.org/officeDocument/2006/relationships/hyperlink" Target="http://zpravodaj.genderstudies.cz/" TargetMode="External"/><Relationship Id="rId4" Type="http://schemas.openxmlformats.org/officeDocument/2006/relationships/hyperlink" Target="http://www.rovneprilezitosti.cz/" TargetMode="External"/><Relationship Id="rId5" Type="http://schemas.openxmlformats.org/officeDocument/2006/relationships/hyperlink" Target="http://www.rovneprilezitosti.ecn.cz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vné příležitosti žen a mužů v ESF projektech Gender Studies, o.p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r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 Bosnič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07.2011 MPSV Č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„sociální pohlaví“ - něco, co není „od přírody“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vs. biologické pohlaví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yjadřuje, že vlastnosti a chování spojované s muži a ženami jsou formovány kulturou a společností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konstruktivismus vs. esencialismu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ová rovnost/ RP žen a muž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namená stejnost mužů a ž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mená, že ženy a muži by měli mít v život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vné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muži a ženami existuje řada rozdílů, ale tyto rozdíly nesmí být důvodem a základem jakéko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krimin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společ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ová rovnost zakotvena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ě ČR a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působ myš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louhodobá záležito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derové stereoty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edstavy o tom, jaké a jací mají ženy a muži být, a jak se mají ch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e se s genderovými stereotypy (a diskriminací na základě pohlaví) často setkávám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rh prác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bor a propouštění, vzdělávání a kariérní postup, vertikální a horizontální segregace pracovního trhu, slaďování osobního a pracovního života, genderový mzdový rozdíl,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azyk – generické maskul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Rodinný život (dělba práce, rodičov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zdělávácí systém (učeb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 Gender Studies pracuje s genderem v rámci ESF projektů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lexní klíčové aktivity zaměřené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šechny cílové skup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visející s pracovním trhem (zaměstnavatelé, zaměstnaní – s  důrazem na tzv. ohrožené cílové skupiny – ((budoucí) rodiče malých dětí, matky (a otcové) po rodičovské dovolené, lidé 50+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 Mainstream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zaměstnavate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ITIVNÍ MOTIV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e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ma roku: Rovné příležitosti a Úřad roku Půl na pů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derových audi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VĚ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adenstv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v oblasti podpory rovných příležitostí a slaďování osobního a pracovního života formou osobních, telefonických a e-mailových konzult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a úřady šitá na míru v různých oblastech souvisejících s genderem (gender a marketing, firemní školky, atd.) – pro management i celoploš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m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ktro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ěsíční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vné příležitosti do firem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zpravodaj.genderstudies.c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a jeho speciálních tištěných vy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orba a vydává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ávních expertíz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ktických manuál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ízů a 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manažery a manažer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řádání (mezinárodních) konferencí, kulatých stolů pro fi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jiné PR materiá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ohrožené cílové skup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ávní poradna „Půl na půl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efonická, online, osob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hovna a informační cen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droj inform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šitá na míru, např. pro  mateřská centra, kde se cílová skupina „zdržuj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rba a vydávání praktických manuálů a poradc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př. „Nenechte se diskriminova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dávání novin „Půl na půl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íležitosti oslav Mezinárodního dne ro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řádání konferencí, worksh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jiné PR materiá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.bosnicova@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24 915 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zpravodaj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rovneprilezitosti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rovneprilezitosti.ecn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43:36Z</dcterms:created>
  <dc:creator>Medvedici</dc:creator>
  <dc:description/>
  <dc:language>en-US</dc:language>
  <cp:lastModifiedBy>nina</cp:lastModifiedBy>
  <dcterms:modified xsi:type="dcterms:W3CDTF">2011-07-26T07:39:42Z</dcterms:modified>
  <cp:revision>140</cp:revision>
  <dc:subject/>
  <dc:title>Prolomte genderové stereotypy. Dejte talentu šanci.</dc:title>
</cp:coreProperties>
</file>